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ABF-1FA9-4039-9B34-20C38646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6A7-4FF9-4ADA-BA41-E0C5ED79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A11-81E4-43C9-9A83-20B715E8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691-55B8-4387-AD18-06C439A3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D5D-83EB-4083-A1B9-884C2C86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0B9-B5EF-4071-BAD0-6168FB8F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A63-2185-4EB6-9BCC-CE18C35F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981-FD34-4E56-A0C2-3BC1CFED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D25-6E2E-4F28-98DF-AA96783A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743-0DED-4FA5-B0F1-6E31434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F3F-3FCF-4CD8-9EE4-C794FB62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CC7-B75B-4609-8A7E-4AF4658D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5C10-CA73-410F-95E9-5FCA44A552DC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ANOTIMPURILE SI VIETUITOARELE-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TOAM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ACTIVITATE IN CADR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OGRAMULUI COMENIUS 2009-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VIRTUAL 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APROBAT CU NR. 09-PM-622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Comic Sans MS"/>
              </a:rPr>
              <a:t>Povestea taberei de la </a:t>
            </a:r>
            <a:br>
              <a:rPr sz="4800"/>
            </a:br>
            <a:r>
              <a:rPr b="1" lang="en-US" sz="4800" spc="-1" strike="noStrike">
                <a:solidFill>
                  <a:srgbClr val="990000"/>
                </a:solidFill>
                <a:latin typeface="Comic Sans MS"/>
              </a:rPr>
              <a:t>Moeciu de 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629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 – 5 nov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adrele did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896000" cy="4105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lorentina Raduc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s II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niela Drago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s II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ilvia Potor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s IV A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ura Pop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s IV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59500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</a:t>
            </a:r>
            <a:r>
              <a:rPr b="0" lang="ro-RO" sz="2400" spc="-1" strike="noStrike">
                <a:solidFill>
                  <a:srgbClr val="990000"/>
                </a:solidFill>
                <a:latin typeface="Arial"/>
              </a:rPr>
              <a:t>regatiti sa montam casutele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facute acasa-</a:t>
            </a:r>
            <a:r>
              <a:rPr b="0" lang="ro-RO" sz="2400" spc="-1" strike="noStrike">
                <a:solidFill>
                  <a:srgbClr val="990000"/>
                </a:solidFill>
                <a:latin typeface="Arial"/>
              </a:rPr>
              <a:t> clasa aII-a 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314280"/>
            <a:ext cx="6985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5877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i clasa II C este pregatita cu casute de a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500040"/>
            <a:ext cx="68403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58770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990000"/>
                </a:solidFill>
                <a:latin typeface="Arial"/>
              </a:rPr>
              <a:t>oi si casutele noastre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pentru pasarele– cls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482760"/>
            <a:ext cx="66247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99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lasa IV C s-a pregatit si ea cu cas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913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rnim la treaba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sa instalam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casu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415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566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egatim man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71640" y="322200"/>
            <a:ext cx="676908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5805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unem mancarea in cas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058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826920" y="5516280"/>
            <a:ext cx="7274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i noi punem fan ca sa fie cald si mo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316080"/>
            <a:ext cx="691380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PERIOAD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1-5 noiembri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00"/>
                </a:solidFill>
                <a:latin typeface="Comic Sans MS"/>
              </a:rPr>
              <a:t>LOCUL DESFASURARII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pt-BR" sz="2800" spc="-1" strike="noStrike">
                <a:solidFill>
                  <a:srgbClr val="ff9900"/>
                </a:solidFill>
                <a:latin typeface="Comic Sans MS"/>
              </a:rPr>
              <a:t>Moeciu de Sus, Judetul Brasov( tabara tema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CADRE DIDACTICE ORGANIZATO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inst. Dragomir Daniela,  inst. Raducanu Florentina, inst. Potorac Silvia, inst. Popescu L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LEVI PARTICIPAN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clasele a II-a C, a II-a B, a IV-a A, a IV-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855000" y="6442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a ma mut in casuta lui Pet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214200"/>
            <a:ext cx="72738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58770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trigam pasarile si le invitam in cas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263520"/>
            <a:ext cx="72741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83200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ate vreuna ne aude si-si alege o casuta   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a primavar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4360" y="155520"/>
            <a:ext cx="727236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603252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strazile Brasov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208080"/>
            <a:ext cx="7416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455840" y="5772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etatea Fagaras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34196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5772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Zidurile cetatii Fagaras – cls I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26352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987880"/>
            <a:ext cx="8229600" cy="8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am frig in Cheile Dambovicioar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208080"/>
            <a:ext cx="7416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594972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sa arata apa curata de munte? Vai,vai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68200"/>
            <a:ext cx="74167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7722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Nu stim sa rezolvam problema. Acum ne</a:t>
            </a:r>
            <a:r>
              <a:rPr b="0" lang="ro-RO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bucuram de excurs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214200"/>
            <a:ext cx="72738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5989680"/>
            <a:ext cx="868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u noi tremuram de frica in Pestera Dambovicioare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08080"/>
            <a:ext cx="727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SC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romovarea atitudinii pozitive privind ecolog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cultivarea dragostei pentru vietuito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deschiderea elevilor si cadrelor didactice spre domenii no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observarea influentelor negative ale poluarii asupra mediul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09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e minunam de ceea ce a construit n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268200"/>
            <a:ext cx="70563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06060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i dedicam toamnei desene - Alexa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727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9896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i multe desene – IV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316080"/>
            <a:ext cx="71294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987880"/>
            <a:ext cx="8229600" cy="8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rtisti din cls II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4360" y="263520"/>
            <a:ext cx="71276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scriem toamna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i in compu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4591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9896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inem si jurnal de tab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26352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987880"/>
            <a:ext cx="86868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inem un jurnal in care a fost prezenta fiecare z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263520"/>
            <a:ext cx="734364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9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utorul jurnal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940360" y="4076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47322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609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abara am incheiat-o cu o serbare in care am  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dansat si am can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214200"/>
            <a:ext cx="74167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059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e intoarcem fericiti acasa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268200"/>
            <a:ext cx="734364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OBI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observarea  reactiilor pasarilor la influenta factorilor de medi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protejarea vietuitoarelor- pasari,  realizand adaposturi pentru aceste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ingrijirea  pasarelelor, oferindu-le hrana si ap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observarea transformarilor ce au loc in natura in anotimpul toamna si a aspectelor  negative legate de prezenta poluar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79480" y="58449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ultumim tuturor celor care au facut posibila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abara. A fost minun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26352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exersarea comunicarii  orale si scrise realizand compuneri, jurnale ale taberei, tablouri ce vor fi prezentate colegil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Comic Sans MS"/>
              </a:rPr>
              <a:t>implicarea parintilor si a altor adulti din comunitatea locala in activitatile scolii, in special in cele legate de ecolog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CTIVITATI DESFAS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realizarea casutelor pentru pasarele de catre copii si parin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drumetie prin satul Moeciu de Sus pentru a alege locul de amplasare a casutelor si pentru observarea naturii in anotimpul toamn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fixarea casutelor si dotarea acestora cu paie, hrana si apa necesare pasarelel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observarea reactiilor pasarelelor din zona si urmarirea gradului de ocupare a casulelor mont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vizitarea obiectivelor turistice: Biserica Neagra, Strada Sforii din Bras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observarea porumbeilor din Piata Sfatului- Brasov: hrana si locurile in care acestia se adapostes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vizita la Pestera Dambovicioara( observarea fenomenelor carstice stalactite si stalacmite, observarea liliecilor fara a-i deranja, observarea poluarii in natura pe traseul parcurs pe jos pana la pester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xcursie in orasul Fagaras, vizitarea Cetatii Fagaras si observarea naturii in parcul din apropi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EVAL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feedback prin intrebar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realizarea unor fotografii si a unui filmulet cu aspectele reprezentative ale activitat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00"/>
                </a:solidFill>
                <a:latin typeface="Comic Sans MS"/>
              </a:rPr>
              <a:t>intocmirea jurnalului de tabara, realizarea compunerilor, a desene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ONCLUZ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rin activitatile realizate in aceasta tabara tematica, elevii au cules informatii despre mediu, despre vietuitoare, despre transformarile ce au loc in natura sub influenta factorilor naturali de mediu sau a celor creati de om( pozitivi sau negativi) si despre unele obiective turistice din z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Informatiile acumulate au fost exploatate in cadrul orelor de limba romana, cunoasterea mediului, istorie, geografie, educatie plastica, abilitati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0:55:14Z</dcterms:created>
  <dc:creator>Flori</dc:creator>
  <dc:description/>
  <dc:language>en-US</dc:language>
  <cp:lastModifiedBy>goe</cp:lastModifiedBy>
  <dcterms:modified xsi:type="dcterms:W3CDTF">2010-01-30T15:52:19Z</dcterms:modified>
  <cp:revision>13</cp:revision>
  <dc:subject/>
  <dc:title>Slide 1</dc:title>
</cp:coreProperties>
</file>